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782E-4287-4A9C-ADC7-75A42891F16C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Rhinitis : inflammation of the nasal mucosa characterized by two or more of the following symp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Nasal con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Anterior/posterior rhinorrho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Snee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Nasal itch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rgy rhinitis - </a:t>
            </a: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g-E mediated inflammation  of the nasal mucosa after exposure to the aller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0951-814F-42D8-8BC0-8E1FAF21AA7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divided in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ittent (IAR) .v. persistent (P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ity classifi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d .v. moderate/sev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6409-866A-4F6A-8E8A-BA6F0392AB1E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914-2D04-4BC3-B0C7-86A0102D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B2E-D0DC-4EF3-B7DD-3D8185FA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492-699A-409D-ABD0-EA6E2BCF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BA6-FFD3-4B04-B78B-75581DAB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DB18-7F3B-4430-92B8-5779D62B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EC5A-1E2C-4C3B-BA02-0FF2F3EB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7364-2A9D-446D-96DC-5078497D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7977-9CE9-46D0-9EAE-44100F1A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C77E-851B-40F2-A10C-7EF0802B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5717-6BDF-4029-8449-E2CDF695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FF75-D490-478D-9A60-049E919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917-F8DE-42E2-A7F9-F9E6AD9E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A4EB-99A1-4906-A2AB-D7D5980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B106-4E2D-45A9-B6A6-5DC91732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DA5E-6E39-4898-9F33-3A139685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A98F-8F00-4E58-9F25-5EF4A530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D6A6-34C3-46AA-A07F-7DC4E6F2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B3F38-1E3B-4FA2-BFD4-CC73723D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0230-0E32-48F8-BDF2-7E3067E7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30DF-4F49-4BB8-94FB-AD85C30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32FD-E180-44B1-8879-C9911CDB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908A-C355-417C-9EC1-A4D50733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9C0-57AD-4051-822C-BE1F0AC6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300D-9D6C-4EBD-A4C6-5332CE6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F57B-4749-46F9-A1AC-E1E5DEBD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23BB-12DF-481E-AAF9-D14CA47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C52C-1763-4BDA-B3F2-E1ECBA2E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724E-9B42-47F3-BBEE-A6B3FF91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29AF-AAF4-49F9-BD8F-7A786CDF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446F-7B41-4D73-8CE8-F1AE1D5E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BEBD-EFC8-431B-8DC0-5DBC4CB6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747F-F0CF-4FD6-9131-F717EBB8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485C8-64ED-4D6D-9E36-F7E14975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04D-BC03-4927-8E7D-81C31D74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35D6-B871-4739-B8C5-CD31AC60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9409-9330-48B0-A802-7C8677D4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ACFC5-43E0-435F-AFFA-1E61CE0F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40E72-F1A5-426C-B34C-47F939B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83FE-DD8D-405B-BC23-BCABB0CF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62B5-FEFB-4B3B-9B94-C60D46A5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13714-E5C0-497B-B853-D96AB624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B7CA-41BA-4081-A341-0FA760A9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0BD4-4A19-426D-8053-536C9C00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66DFB-0EDF-4134-9BBB-85A3FF84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5B4-4853-42BD-B71C-E8D40C1A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80E87-A86F-406A-90C0-1ACAB058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00B4-0EEE-41BA-AF70-CE57B35D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FC283-44A5-4B80-9EC4-F00D4112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0B83-6DDA-4757-8A7F-5F114936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CCE8-E459-4CBB-B254-FF757538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D6DE-C6E9-4E8D-835F-A181FCD3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D9A3-89F8-447A-9164-6258047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18B88-C2BF-48F8-8F4F-FC15F5B3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BFE9-BC4C-48DE-BC0F-19BCA60C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578D-FE6D-4B4A-827F-9FDCBD3F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FD6-2AC6-4CF1-848C-B8DFE3BB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FB82-AF77-4E12-BF00-4B969C2B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E136-1D1F-4F18-B041-1F377736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6C612-2673-45E0-A5FB-324E65D9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DD858-D22A-4F53-A425-AF060ECB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DAF6A-5E71-43F1-8B63-78E43EF3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54E92-54CD-4CA0-ABAD-0D8D16DD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D070B-D625-498B-AFB5-FA55E3F4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05D1-3C7F-4B16-90D3-9C62B49E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00C37-9EA1-4B59-856D-5F12C46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551DF-69B5-4910-B15D-11FC5808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9A1-906E-47FA-9317-F39F5410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9A90-D681-4B0E-9B72-ED750F6D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CF258-37F3-4667-87D2-88CF9198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B46BC-B6C2-42F9-88DE-D40D634C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732A-F5B1-43E8-909E-1BAE8B69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0AEFF-B762-4B3B-856D-173E703C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D916D-C56C-44E6-AEFF-99AFADC0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D292D-FBBC-4C21-9CBC-91672010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342FA-A524-41A5-B5DC-26275E3C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8D11F-9251-4F6A-BC46-2B4D011B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CC24F-AECE-4C0C-B88A-FA7B27F5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78E-E290-4760-8702-EE0A6293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F7959-C9EC-42F8-881A-0AA67499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6456D-7BD1-4B57-9B1A-04D9604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21BD-B027-483E-9287-6FD35C81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08C1A-6211-44F2-A9FC-BE554AC1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DDF0-CFD5-475F-8B8F-974A0F7F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CCB-8793-44E1-BA98-3FF9C140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22E7-F90A-492C-B3F4-6B2FC935D4A3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A1AF-020F-4E57-B800-75EBBE11B30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C821-3A95-4678-93DF-4818A9127D08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152-168E-4E45-9235-DB865C24B22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1093-CE73-4B9D-ADDF-C2EB5F8E4C6A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4B2-B333-4255-8DC2-F428F1D892A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5C57-045D-4563-AAE0-B70AAE37D129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A612-AD50-4A60-8A29-6DB08B533DA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5DDF-7959-41F9-B4AB-6BE67C7BA962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E9FE-9353-42ED-A217-D0967EB796E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8D1B-17FC-4408-98DD-F91599094D78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5D6B-464E-41EA-907C-D1D5C095DD5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DB90-0E85-40B2-BC00-9F3F6E9A6017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5456-3CBA-4227-94FC-B6B686D24BA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77960" y="2599920"/>
            <a:ext cx="64008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CASE DISCUSSION 3</a:t>
            </a:r>
            <a:br>
              <a:rPr sz="36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B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IDA SADJA’AH SACHLI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CONSULTANT OTORHINOLARYNGOLOGIST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AMILIA HAZREENA HAMIDO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FAMILY MEDICINE SPECIALIST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MR. LEOW WOOI LEONG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PHARMACIST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320e04"/>
                </a:solidFill>
                <a:latin typeface="Gill Sans MT"/>
              </a:rPr>
              <a:t>Training Module CPG Management of Rhinosinusitis in Adolescents &amp; Ad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2A6F-7EC5-4CCA-ABB4-935FF017124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600" y="1523880"/>
            <a:ext cx="740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Saline irrigation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asal saline irrigation facilitates mechanical removal of mucus &amp; infective agents. It also decreases crusting in the nasal cavity &amp; increases mucociliary clearance (MCC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lternative analgesic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SAIDs (e.g. diclofenac, sodium mefenamic aci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Nasal corticosteroids - No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Decongestant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e.g. Oxymetazoline nasal spr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ntihistamine - No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o role of antihistamines UNLESS there is underlying allergic rhinit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Associated symptoms suggestive of allergic rhinitis are sneezing, nasal itchiness, nasal obstruction &amp; rhinorrhoea (refer ARIA guidelin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ntibiotics - N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6885-8812-4D1E-AFAD-81AA7F17448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57360" y="131760"/>
            <a:ext cx="7738920" cy="65181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4405320" y="4649760"/>
            <a:ext cx="3868560" cy="20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Callout 2 (Accent Bar) 7"/>
          <p:cNvSpPr/>
          <p:nvPr/>
        </p:nvSpPr>
        <p:spPr>
          <a:xfrm>
            <a:off x="5330880" y="5184720"/>
            <a:ext cx="2151000" cy="870120"/>
          </a:xfr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5168880" y="5099040"/>
            <a:ext cx="17812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1C37-9E06-4600-A0DF-EDFE6DD4BA8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2014560" y="1657440"/>
            <a:ext cx="5673600" cy="4449600"/>
            <a:chOff x="2014560" y="1657440"/>
            <a:chExt cx="5673600" cy="4449600"/>
          </a:xfrm>
        </p:grpSpPr>
        <p:sp>
          <p:nvSpPr>
            <p:cNvPr id="364" name="AutoShape 3"/>
            <p:cNvSpPr/>
            <p:nvPr/>
          </p:nvSpPr>
          <p:spPr>
            <a:xfrm>
              <a:off x="2014560" y="1657440"/>
              <a:ext cx="5662440" cy="44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5" descr=""/>
            <p:cNvPicPr/>
            <p:nvPr/>
          </p:nvPicPr>
          <p:blipFill>
            <a:blip r:embed="rId1"/>
            <a:stretch/>
          </p:blipFill>
          <p:spPr>
            <a:xfrm>
              <a:off x="2014560" y="1657440"/>
              <a:ext cx="5673600" cy="444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1219320" y="2163600"/>
            <a:ext cx="77263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74FB-6DB2-4BC5-9550-08EBD25F7E7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E:\Slide\p15.png"/>
          <p:cNvPicPr/>
          <p:nvPr/>
        </p:nvPicPr>
        <p:blipFill>
          <a:blip r:embed="rId1"/>
          <a:stretch/>
        </p:blipFill>
        <p:spPr>
          <a:xfrm>
            <a:off x="2001960" y="1447920"/>
            <a:ext cx="6365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1" name="Content Placeholder 4" descr=""/>
          <p:cNvPicPr/>
          <p:nvPr/>
        </p:nvPicPr>
        <p:blipFill>
          <a:blip r:embed="rId1"/>
          <a:stretch/>
        </p:blipFill>
        <p:spPr>
          <a:xfrm>
            <a:off x="1743120" y="2205000"/>
            <a:ext cx="2922480" cy="220968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F4E6-DEA3-4BC2-90D0-64B696FC812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"/>
          <p:cNvGrpSpPr/>
          <p:nvPr/>
        </p:nvGrpSpPr>
        <p:grpSpPr>
          <a:xfrm>
            <a:off x="5562720" y="2205000"/>
            <a:ext cx="2604960" cy="2138400"/>
            <a:chOff x="5562720" y="2205000"/>
            <a:chExt cx="2604960" cy="2138400"/>
          </a:xfrm>
        </p:grpSpPr>
        <p:pic>
          <p:nvPicPr>
            <p:cNvPr id="374" name="Oval 6" descr=""/>
            <p:cNvPicPr/>
            <p:nvPr/>
          </p:nvPicPr>
          <p:blipFill>
            <a:blip r:embed="rId2"/>
            <a:stretch/>
          </p:blipFill>
          <p:spPr>
            <a:xfrm>
              <a:off x="5562720" y="2205000"/>
              <a:ext cx="260496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Oval 4"/>
            <p:cNvSpPr/>
            <p:nvPr/>
          </p:nvSpPr>
          <p:spPr>
            <a:xfrm>
              <a:off x="5994000" y="2545200"/>
              <a:ext cx="1738800" cy="14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Persistent symp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ill Sans MT"/>
                </a:rPr>
                <a:t>&gt; 4 days per week and &gt; 4 week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Box 12"/>
          <p:cNvSpPr/>
          <p:nvPr/>
        </p:nvSpPr>
        <p:spPr>
          <a:xfrm>
            <a:off x="1617120" y="4952880"/>
            <a:ext cx="289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M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dail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work &amp;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 troublesome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4648320" y="49528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MODERATE-SE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Abnormal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Impairment of daily activities, sport, lei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Problems caused at school o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Troublesome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398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Differential diagno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8934-760E-4105-966C-702828D9781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304920" y="1635120"/>
            <a:ext cx="86104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biotic - </a:t>
            </a:r>
            <a:r>
              <a:rPr b="1" lang="en-MY" sz="3200" spc="-1" strike="noStrike">
                <a:solidFill>
                  <a:srgbClr val="000000"/>
                </a:solidFill>
                <a:latin typeface="Gill Sans MT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he history provided suggests common cold which is viral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he colour of the nasal discharge does not correlate with origin of infection, whether viral or bacterial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biotic has no role in the management of a common co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ommon cold is self-limit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7ECA-1BD3-4184-8CA0-66F29CC0EB6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ase 1 – 2</a:t>
            </a:r>
            <a:r>
              <a:rPr b="1" lang="en-MY" sz="3900" spc="-1" strike="noStrike" baseline="30000">
                <a:solidFill>
                  <a:srgbClr val="572314"/>
                </a:solidFill>
                <a:latin typeface="Gill Sans MT"/>
              </a:rPr>
              <a:t>nd</a:t>
            </a: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 Visit (Primary Car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lia comes back a week later with worsening symptom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Mucopurulent nasal dischar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Fever,  temperature=38</a:t>
            </a:r>
            <a:r>
              <a:rPr b="0" lang="en-MY" sz="2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In addition to the headache, she now develops right-sided facial pain which is tender on tou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ain has increased in severity affecting her sleep &amp; stud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VAS score for symptoms of RS is now  7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ff0000"/>
                </a:solidFill>
                <a:latin typeface="Gill Sans MT"/>
              </a:rPr>
              <a:t>Q3. What is the diagnosis now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4816-9F79-404F-B660-14E3F03FCCF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rhinosinusitis, probably with superimposed bacterial infec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36CB-83B1-448B-A79A-79EF7BE0F77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4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How would you manage her now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aline irrig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alges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corticostero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Decongesta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histam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87D8-2CB4-407A-AD66-AFD57F5D521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6238800" y="2955960"/>
            <a:ext cx="2481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151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ase 1 - 1</a:t>
            </a:r>
            <a:r>
              <a:rPr b="1" lang="en-MY" sz="3900" spc="-1" strike="noStrike" baseline="30000">
                <a:solidFill>
                  <a:srgbClr val="572314"/>
                </a:solidFill>
                <a:latin typeface="Gill Sans MT"/>
              </a:rPr>
              <a:t>st</a:t>
            </a: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 Visit (Primary Car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47560" y="1401480"/>
            <a:ext cx="739116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Cik Alia, a 23-year-old, final-year university stu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3 days h/o purulent nasal discharge, blocked nose, headache &amp; lethar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She has been taking regular paracetamol for her headache, &amp; not on any other regular medici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She is a non-smoker with no other significant medical history or drug allergi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Her exams start in 2 weeks’ time &amp; she feels a course of antibiotics will help to recover quick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lia appears tired &amp; shivery, &amp; is constantly blowing her nose. O/E, she has a temperature of 37.8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Her Visual Analogue Scale for symptoms of RS is 3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Saline irrigation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algesic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Nasal corticosteroids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Intranasal corticosteroids (e.g. Beclomethasone, Budesonide, Fluticasone propionate) significantly improves symptoms of A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onsider prescribing to patients for a period of 2 - 3 wee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Decongestant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histamine - No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B32E-E255-4C7E-B159-CA8EC5F44E7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biotics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an consider to prescribe antibiot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referred antibiotics = Amoxicillin 500 mg given TDS or Amoxicillin/Clavunalate 625 mg TDS for a period of 5 - 7 da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May prescribe other classes of antibiotics if patient has history of penicillin allergy - no significant difference in efficacy between different antibiotics in A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Cefuroxime, Doxycycl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recaution: antibiotic resis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D7C5-D383-4A59-A24F-37537FA5EF4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850F-86F7-4A4C-96C1-37EC14C378A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652760" y="1353960"/>
            <a:ext cx="6653160" cy="5204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631880" y="3051000"/>
            <a:ext cx="3137040" cy="3654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4800600" y="4444920"/>
            <a:ext cx="3505320" cy="210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Case 1 – 3</a:t>
            </a:r>
            <a:r>
              <a:rPr b="1" lang="en-MY" sz="4300" spc="-1" strike="noStrike" baseline="30000">
                <a:solidFill>
                  <a:srgbClr val="572314"/>
                </a:solidFill>
                <a:latin typeface="Gill Sans MT"/>
              </a:rPr>
              <a:t>rd</a:t>
            </a: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 Vis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Upon completion of antibiotics during her last visit, her facial pain &amp; headache improve significantly, but her nasal symptom persis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3 months later, Alia comes back with similar complaint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termittent nasal blockage &amp; nasal dischar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ltered state of sme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Q5. What is the diagnosis now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0DC1-9A83-4C19-BB09-60DF5171FC2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8037360" y="3130560"/>
            <a:ext cx="10051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hronic rhinosinusit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BAF8-3435-4F73-AD3C-1DE6CA5362F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553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Outline your manag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AB13-E650-4F31-A7DC-CD9A952EF08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aline nasal irrig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effective as an adjunct treatment for managing  symptoms of C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tranasal corticosteroi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hould be given for 16 - 52 wee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algesic (when necessar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Refer to ORL for further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C620-6721-4FB4-A5DD-EA7D624424D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41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A072-6BF7-4931-A3B0-9EE59A0291B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06720" y="1571760"/>
            <a:ext cx="58179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41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8263-17C2-436F-9631-C9BC87A4079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600200" y="1619280"/>
            <a:ext cx="69231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E357-B9ED-4141-8AD9-0E0CA231971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1676520" y="866880"/>
            <a:ext cx="67723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553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What is the diagnosi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E14D-FA84-4082-9ED3-84A36BEE304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6238800" y="3178080"/>
            <a:ext cx="2481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Take Home Messa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vs chronic rhinosinusitis should be differenti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saline irrigation is a useful adjunct in managing both acute &amp; chronic rhinosinusit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Judicious use of antibiotic is important to prevent antibiotic resista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1ED8-7C3A-41BD-B9A0-F1AB0F77B93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3907-C946-4003-9DC4-1194A015687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71240" y="1599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diagnosis is likely to be either common cold or mild acute rhinosinusitis (AR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Both are likely to be viral in nature &amp; self-limit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AEBA-4281-47BA-BD22-4181C68A86B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FAF0-6AF8-438F-9BF4-86F948AF458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273320" y="138096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1615-BDDB-4219-B01B-67024E64049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676520" y="1552680"/>
            <a:ext cx="685800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Visual Analogue Score/Scale (VAS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E1AA-ED8D-4D12-9E1B-4C7943FADD8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1752480" y="1690560"/>
            <a:ext cx="66358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ff0000"/>
                </a:solidFill>
                <a:latin typeface="Gill Sans MT"/>
              </a:rPr>
              <a:t>Q2. What is the management/ treatment optio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3050-473B-4F7B-A3EE-68E54C9454A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5589720" y="2590920"/>
            <a:ext cx="3146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ff0000"/>
                </a:solidFill>
                <a:latin typeface="Gill Sans MT"/>
              </a:rPr>
              <a:t>Q2. What is the management/ treatment optio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1397-FE5A-4208-A93F-E6829F2E6A0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589720" y="2590920"/>
            <a:ext cx="31464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Content Placeholder 2"/>
          <p:cNvSpPr/>
          <p:nvPr/>
        </p:nvSpPr>
        <p:spPr>
          <a:xfrm>
            <a:off x="1434960" y="1828800"/>
            <a:ext cx="417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aline irr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cortico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Decong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his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22:12:47Z</dcterms:created>
  <dc:creator>DrAmin</dc:creator>
  <dc:description/>
  <dc:language>en-US</dc:language>
  <cp:lastModifiedBy>DrAmin</cp:lastModifiedBy>
  <dcterms:modified xsi:type="dcterms:W3CDTF">2017-10-09T00:08:42Z</dcterms:modified>
  <cp:revision>90</cp:revision>
  <dc:subject/>
  <dc:title>PowerPoint Presentation</dc:title>
</cp:coreProperties>
</file>